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AF5-8D1A-4591-948F-8F280D44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A15-D9BE-4464-B3D0-53FE10D8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662-6DCF-48F4-9DD0-30F45DFF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438-437A-478C-BE9F-2F74CC5C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BE8-37DC-4F27-8DEF-C98F7137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683-1970-4350-AE25-A6FEDBB7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3ED-CC40-4A4C-9179-4AACCB32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500-A3B6-4A5B-8213-C960E152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EBF-1E99-4C7A-A584-4EC7ECA3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A7B-E6DA-4B6D-A208-1D342234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CFB-19F6-4EAE-A0F1-AD248E4C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7D0-43C6-4D0B-9C63-08BE43F8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/05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nQ Mobile               Confidenti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Ralf Schol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B425-5F6B-483E-AA52-60EF2529B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&amp;D Mgmt Workshop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unich, 28. – 30. Ma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. Bocionek, YC Lee, R. Scho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. Bocionek, YC Lee, K. Win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direct reports of SB and Y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deputies and liaisons of the direct reports with global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Objectives of the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 forming one R&amp;D Managemen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 forming one development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ntify possibilities of best practic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 joint vision and mission for PH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elop joint goals and targets how to achieve synergies across all R&amp;D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ulate the „principles of operations“ for PH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arn to know each other and have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ation in ad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ach manager who represents an organ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rt overview about people in the respective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rt description of the workflow and processes (working modell, measures, input, output,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ts and projects currently und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hievements since Okto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1052640"/>
          <a:ext cx="8207280" cy="3919320"/>
        </p:xfrm>
        <a:graphic>
          <a:graphicData uri="http://schemas.openxmlformats.org/drawingml/2006/table">
            <a:tbl>
              <a:tblPr/>
              <a:tblGrid>
                <a:gridCol w="2087280"/>
                <a:gridCol w="6120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:00 – 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0 – 12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 – 13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30 – 17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:30 – 18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30 – 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 tb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35120" y="4940280"/>
            <a:ext cx="8084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uring morning and afternoon working session no internet access and phone usage will be allowed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he workshop will start on Sunday afternoon with a session to get the personal expectations and a get-together to build personal relationshi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agenda R&amp;D-management-work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ogram (first draf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1520" y="907920"/>
            <a:ext cx="40388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nday, May 28th, 17:00 – 22: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T TOGETHER, DI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le is reseverved at 18: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fbräukeller, Haidhausen Innere Wiener Str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131920"/>
            <a:ext cx="403848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day, May 29th, 8:00 – 11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O WE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ach manager and his/her deputy explain their organization, projects, current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ach manager and deputy formulates the expectations on the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219560"/>
            <a:ext cx="4038480" cy="20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day, May 29th, 13:30 – 17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AT WE WANT TO ACHI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vision and mission for 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strategic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„synergy plan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joint KPI‘s (only in addition to what we have; no change to old 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nner at 19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907920"/>
            <a:ext cx="4248360" cy="30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esday, May 30th, 8:00 – 11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W WE WANT TO WORK TOGE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roles and responsi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change propos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worksplit between RD centers and their satel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meeting, communication and review sche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ulate best practice shar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un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4005360"/>
            <a:ext cx="4248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esday, May 30th, 13:30 – 17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EN WE WILL DO W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work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itt to goals and tim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gree on next concrete st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re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ocations and 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tel Re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otel, Hochstraße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irport Pick-up and Transpor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m Airport to Novotel – pleas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ak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8, station: Rosenheimer 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 54 or 100 from Ost-Bahnhof to Haidenau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ful contacts and phone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ista Drescher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: +49 89 4111 45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ell: +49 178 7701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Q headquarter add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idenauplatz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shop rooms add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ferenzzone: 11.E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ünchen (B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unch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les will be reserved in the ca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nner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ning will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4T12:59:59Z</dcterms:created>
  <dc:creator>Siegfried Bocionek</dc:creator>
  <dc:description/>
  <dc:language>en-US</dc:language>
  <cp:lastModifiedBy>ScholzR</cp:lastModifiedBy>
  <dcterms:modified xsi:type="dcterms:W3CDTF">2006-05-22T10:24:21Z</dcterms:modified>
  <cp:revision>11</cp:revision>
  <dc:subject/>
  <dc:title>R&amp;D Mgmt Workshop Munich, 28. – 30. May 2006</dc:title>
</cp:coreProperties>
</file>